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019-46AF-4E9F-AD83-A153457C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C1C-05DB-4F34-91D8-563D90D5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320E-006A-4C52-8D9F-513F7BA6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4F1-12D6-4C28-87AA-032DD809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4E72-3EE5-428B-AA04-6EE7811A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79D5-682E-437E-AF51-38C4206B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B4B0-0979-40BA-A879-80A5FA73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0E7E-F58D-44CF-89E7-0F1CF19B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7A74-7758-42E8-AD3A-367CD83C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3665-62D5-4F4C-800F-455030E7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CB4C-50B8-4E56-A2B0-880C512D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021-61ED-44BD-A96A-96199DC3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0913-B2D3-4958-B687-BF220620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52CD-5CA4-4724-A5B5-029247FF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A7FB-5EDE-41BB-A044-B21D6444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6BA1-B519-40AC-98F2-8C77474A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5F36-CA2F-46AD-A06B-608D27FB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33133-0434-4D67-B205-8AFDF671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CF980-43F7-45CF-9ED2-ADE24C4F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17744-708D-42FB-954A-3B837C99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1B56D-F1F5-4229-B59A-0C617B23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F1C87-DAA3-4499-8700-0C049074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1149-E154-4108-A302-70D7F184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FF9D7-C281-44ED-A88C-56A97E55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4EEFD-772B-4862-B4FE-0CC5506D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A2D0F-4CE4-48BB-AE41-0CFF9A61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66810-4888-42F9-A194-34918C7A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38538-B58F-4AD4-B137-136E8874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336B4-F80B-475A-925B-007BB073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42553-75ED-40CB-A7E2-DC9088CD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C4D-F557-4B33-B0A1-96A89D70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FE4-197C-4DD2-8F41-3F05A5D5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960-4C36-4726-B834-E217C3EC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E60-9106-4B33-BDA1-765D21F1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801-171A-4306-BC9E-145CD0BE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6DF8-56EC-4017-9047-E10C1758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EE47-D38D-4AA2-BF60-756214A4E97D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66CE-ABED-4E06-BBE7-B302A0BE48B8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1981080" y="665280"/>
            <a:ext cx="600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6A23-E5DF-46FF-A9E4-BF1FB18A4A45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3144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Experiences: Systematic confusion?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4600" y="2352240"/>
            <a:ext cx="8089920" cy="38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licy: experience to date is that in the absence of policy framework, confusion and lack of clarity – Is ‘LRRD’ a general principle or a specific procedure to be triggered? Who decides whether a state is ‘fragile’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trategy: How are resourcing decisions generated / agreed? Resources determined by comparative advantag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Design: – how we use the money?: E.g. call for proposals –preparing the guidelines to include area targeting (VAM), who to involve to ensure synchronization?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mplementation: Selection of partners, timing – synchronization can be a constraint, coordination left to staff initiativ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1120"/>
            <a:ext cx="77868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Best Practices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5520" y="21477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licy: Good to have a joined up food assistance / food security policy framework – to be replicated by other sectors?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trategy: E.g. Thailand ECHO support for refugees, EU livelihoods. Challenge and opportunity to join up livelihood strategies as a common ground. E.g. investments in market analysis starting up. Participation in management meeting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Design: Capacity building / policy development initiatives at country level an important opportunity for LRRD / DRR e.g. seed Afghanistan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mplementation: Joint evaluation of CfP with ECHO TA and joint monitoring missions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57000"/>
            <a:ext cx="77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a1f1d"/>
                </a:solidFill>
                <a:latin typeface="Verdana"/>
              </a:rPr>
              <a:t>HQ actions: Transition…to a more systematic approach </a:t>
            </a:r>
            <a:endParaRPr b="1" lang="en-US" sz="20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9040" y="23367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licy: LRRD Policy Framework – (and staff working paper for dummies please.) Member States…donor coordination a priority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trategy: Consultative process between different instruments to agree on case by case approach evidence based (Delegations and COs/RSOs involved)…but clear guidelines on process required to ensure meaningful strategy. But how does LRRD timeframe fit with CSP cycle? Need to build in LRRD. IfS? What is ‘LRRD’ Budget?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Design: QSG should do justice to LRRD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Implementation: Ensure country level in loop (FF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3480" y="1696680"/>
            <a:ext cx="7786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Humanitarian/Development Strategic FW?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3749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OF COURSE!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albyflores_v</cp:lastModifiedBy>
  <cp:lastPrinted>2003-11-06T16:40:02Z</cp:lastPrinted>
  <dcterms:modified xsi:type="dcterms:W3CDTF">2010-07-19T11:59:18Z</dcterms:modified>
  <cp:revision>860</cp:revision>
  <dc:subject/>
  <dc:title>No Slide Title</dc:title>
</cp:coreProperties>
</file>